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47FAC-8DA0-4CAF-900E-5989412A42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25E4C-1023-4964-9E03-411AFE07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864CBE-A39E-467A-ABC6-FB56716C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ECCD8C-73CB-4CE5-B296-B56A05742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715FBE-6316-4FEC-A709-78B916A53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F08054-0E13-4CDF-8A8E-3B8D9762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64F524-3D00-403F-AB2C-C22E8126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594565-8B16-495E-BD34-621A3006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FDF3B4-95A4-44FC-8E26-7D5B5796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CF9C6E-9F5A-47F2-BAFF-3207E43E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B5C360-6DEB-4684-A108-D6348DC793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B39CE-DEC7-4F9A-9B87-E57B482835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7BF75-0961-41AC-AFBC-8E72A157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E47E3-0997-468F-8D03-E3EE5497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F8216-3FC3-4CD3-8584-1DAD2E4B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C4046-24CD-4ACD-80D4-152CF780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997EF-874E-4775-BE12-1BF480DEE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3E1A4-E69C-4861-8C6B-2622E262E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F0EBF-C478-4A8A-A928-E218B4E3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37BD1-FDC0-4158-ADBF-FD8333EF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FAD89-0308-4779-B623-74DC31E0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8287F-E1A1-425C-8BBE-F82447B5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65596-73E8-46A0-926B-7FBFCC7A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0AD12-983A-4447-833A-0AB2AEBCAC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46797-FE06-4BC3-B8B4-2681A592CF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66B93B-9F6C-4F3D-84CA-358454B1C0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793374-6A97-4867-9CD9-12995288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FFE049-D971-4348-8B07-8DB1D4E3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D81716-140F-45D0-A3E5-7C9C5F2D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E0BEA7-0C4E-426F-977A-852AB8055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D98DC1-E086-43AB-9792-0BE063725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5F011C-F812-44D7-853C-5E69E1D2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6D5694-F94B-44E5-9EA4-AD8AB0B9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252A3F-F88A-48DA-906F-F87B9AA1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7DD39-5F09-4632-B06F-EB67DC80F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3372DB-8581-46F1-919E-CD6BCB69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E533AE-57DE-4FD0-8EDF-B5048584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7C7FFE-F807-45C8-9E5B-2A51F4E2EF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C4E7D7-19B7-4D67-ABDC-F1341DF2D0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1FE986-4554-49CF-BC73-12A338B0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36B4F8-23BB-4B8A-9980-04DE6DA5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7E9C76-26FE-49D5-AB7B-DC24375E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6FEAE8-6154-4818-9002-28F1DF1E2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8DA8CC-69DC-4C17-B3E8-B0E74167E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6CECD5-9AD2-45DE-8016-1C1C54C6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17492-C4CB-464A-9D79-C63AF4F9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38D457-8456-4EE6-A1C1-0C36C940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44B0FE-CB3B-4494-AA4B-DE16B1EB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22B00C-D688-43F0-AE3A-6EB0F828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31B8E7-6E31-4EF3-BDBA-BC51D39A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B95025-92AD-4E01-B352-79215874DA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963F9B-D9E0-4F43-9D67-0C67E30591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C2122-52F5-4D4F-8901-9142B305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F690F-D998-49F5-93B2-1443DFF0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9D73A-54E8-4753-AB51-9F577966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BBBA4D-EBDA-4A62-B2A6-72CFE4997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D5937-814B-461C-BA4F-8228920C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17FE30-B12E-48A1-ABD5-728BE06B3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8B3B6C-4803-4574-AA6F-BC8331C9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EF88E-1BDA-40E3-9BB3-C6856175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8FFCC-BADF-43B4-8CF3-56BE11F4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0B1F6-434D-47F6-9990-286854EF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7A56E-A5D7-4EFA-B56A-FE8E7E1A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E915A-C261-4C45-A1D9-5164C407F3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9366CB-9E2E-470A-8072-31488CA55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8BDA15-109C-4778-9273-0D64C893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FA6CE0-AA80-43FA-9CDA-492E0BCF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80783-368F-4BDE-9B4B-48A4EB3F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15414-3093-4FC0-A59A-1D25E887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A13523-434D-4E85-9E25-C53092DA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37C4B0-759E-41AD-9A24-15FBDF24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8795E-9BCD-4FBE-A9FC-7928AC42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9EC9A8-87AF-4B00-A394-DA2A5A28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EE7896-00FC-4EDB-8038-886C1F25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D6AAA-1887-49D0-9682-2A658B45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72F06-1148-4630-8B71-63EF9C7A9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B438B-E4C7-48B7-9C41-76A52023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BFC88-4990-4572-A1F1-78017C042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4BEC9-EB99-4785-AF3C-8A18A727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DC641-D073-432F-80EE-D71C47A3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1E63A-54FC-4AE3-AA54-FBD9DC22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31F51-AA09-46B1-B627-976C89E5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D26EC-6902-48D2-BB8D-913411B4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8283B-A2ED-455C-AA33-E7EDFFE1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BF181-37A7-428C-B210-CD08DC94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EF99A-A043-4BD6-AA9C-94FD80E4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206EA-6AFE-4472-B90F-E6CA4950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55B3C-DFDB-412D-90AD-2994DD8F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06E05-2069-407B-8B52-25DF444C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5EFF1-A2AB-4058-875B-6C5E6D68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3783B-CC6E-4003-8F19-B1FC7A2C5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DA6271-F897-41FC-9220-1D39FAF4A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278C7D-C574-48D5-8FC7-5C9152EE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0C98A5-3F81-4C1B-8F83-2606310F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4F18F0-1D46-4427-9D0B-E75A3B23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74711D-DCFC-49F4-B111-8F60CC7F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EE713-368F-4C68-AAE2-71062B33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974A2F-A61A-4EE9-A2F4-891590CA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787078-7DC3-4740-B082-D2D94EE3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7605B6-4795-4AEC-A34D-718D6F2E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8973C-5F9B-4775-9BFB-7C01E581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FA74F3-DBD8-48F8-9813-0C16B839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FF9C28-31DA-483A-8243-5BDCFBFAD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CDEAE8-2131-42C8-8649-A1F404A1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2CAE6D-B575-4A4F-9C52-E68A6A70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796694-5453-4FC5-932D-90CADB8E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7A27DB-1F25-492D-81FF-E708E3FD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9CE289-9CC2-4229-9DB3-415E13B5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FE2ACC-7C3B-498D-BC93-5418D0F8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D1BA5E-B225-4D15-8E83-926A9F78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1EBDB9-B7E2-45D2-9C61-AFF0F7D6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541B4-B798-459E-B1DE-A539F4D1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D2C20-0C47-4132-9C9B-10AFCA94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A7212F-9FF2-4120-B164-107B9694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BE6F34-9EED-4824-8984-61B1D4CD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8E2DDF-2890-4C7E-8297-6591F46D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ACCA2C-38F2-4F4C-B805-3A8A978EC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220834-1FCC-416E-ABB8-A8869C4C6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540D94-500B-40B1-A063-D92593E2E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0F544C-20E2-45EC-84CA-F39CDB17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ECAC0F-3F34-4F59-BAEB-8E2C943C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21BD40-9B07-4C35-8279-D39A6090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1438E6-639F-4C5F-B384-46D99DFC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98F29-509B-449F-AC61-846232B2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885F9F-EE12-4F8D-AABF-169109F7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3F7E0E-9478-41C2-B2BB-095614F1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58155F-660B-46F3-B5A3-50F944B2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DB73E6-F75E-4E72-9DD8-ADF5DC6D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17A0C9-34B1-4B6D-8B1D-2D43F626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7543ED-67DB-4955-AF81-D15600A51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A56219-11ED-4C1C-A73E-F311D3EBB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E89BB5-DF73-403C-AC5A-3370EB88E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6D49E6-5C9E-432F-9765-8FF7B7D5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F702B4-23CE-494C-BCD1-1CD8B73E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FF172-0AAF-443D-A890-19C23BAB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6C1C85-1F2C-4E77-9E05-CDC6BDE7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08176E-CFB5-415C-BFC8-0C4B60E1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24139E-53E4-4233-AB09-23FDB452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BD209D-B09D-47B6-BAF1-50BD2A3A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D633B2-319E-4FA0-B5C0-052AD3C8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8A1BA2-D95C-40B9-855A-A6298265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A0F29D-CE7C-47B5-AAFB-595957AE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499E26-3291-4B27-A373-885371F9C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4FB89B-E298-4A82-B78D-88738B104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CA6388-9378-4B46-8951-92E5B7E56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F90D2-42BD-4598-8DE5-AD6860241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9D850B-71DE-4468-B4B3-B8A74015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0595C2-A09C-44D0-88B2-02B6A924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54C5A8-8883-4F22-AC96-312368C9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445F05-078C-40B2-9828-E22CCBB6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2992BB-4D15-4469-8766-6B150A01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DB4BF3-2C7E-435F-98B7-152B95C1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2234E4-9952-46E4-9E16-632AE28A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AC277F-7A30-492E-AC04-23FC9DB0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8ED3FF-2F22-49A5-BA5F-DAC9AF07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28E631-DE4B-45C1-8D56-0FF5C7EC7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97D94-D7EA-45B3-B8A8-DC21FADA3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5AD3E6-38B1-4C59-A173-8E542E045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B50BB6-C0FF-40DF-A3D1-D518F5E3D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4EC929-EB67-471F-A94C-8902C0C5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150089-D553-48D9-B150-F2934884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1DC15D-135C-490C-8D42-D3EF057A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7D6C77-E2C1-4E42-98F1-E5F59B7B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8F01BB-3CB9-497D-99E5-DC864D88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CA7C92-B042-4175-A4E9-B9E401C5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A07A60-C1D7-45DB-ABD6-45EA0652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CF4592-2648-41D1-A650-D9366DBB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CF9973-719C-4134-8963-A1AD97144F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89C5F1-E7C6-4415-AAD9-802DF230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7D64A5-8A70-4E62-B839-1D94F9418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D340D0-D32C-46E0-8B8B-F3C81755F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BBE933-FDB3-4E82-8D9C-CD988831F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7578B9-CB7E-4245-93BB-B4DD6587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CF59C2-2A82-4434-9509-C96C5841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2737CC-6020-4B6D-9584-4B7D3D18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19F4F3-C7CD-430E-82A9-D0E17F68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D25916-4045-45E1-9CA0-711A0350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1B6BA9-D9D8-4601-9CCA-A63DB80E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05851B-1A6B-4D53-B88D-96BB273B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E5E7AE-168F-4A49-8FA7-E1AF330C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5BBE3F-341B-4F3E-9900-59252D65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24D4ED-0FCE-4574-BC13-F93CEF87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FA5DC4-EDD7-4B2E-BB41-B06BBD9A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45A847-5409-468F-A9A1-88B730CC9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DEE12E-BB61-4F1C-AB94-BFFD08CE5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1B00FA-329C-486D-9BAF-D2EECA40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5FF3DE-8FE2-4254-9C6D-63773CDE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574399-3578-4F0E-A9F0-257B29DD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34028F-5948-4450-8D79-50ED2081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9A203B-068F-47D2-A756-6B87CEB7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F5F342-F134-45C1-859F-9C8E4228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44E762-5388-4D68-9ED7-60543D79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495AEA-9CC4-4AE6-ADB0-058204E7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F3BE0B-C05C-4FF4-9AEE-1450A551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C4B2D8-A1A2-40E4-9210-BAECD3D6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D17EA3-E9A5-4271-B93C-4655915AE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C00244-446E-46B0-A920-4FFFDA65C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632E26-438A-4D52-9F00-517385338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069364-32AA-4A12-8A8C-8DEB9CD5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15AF56-DEDD-4555-B433-30FA8083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2000B1-1CAC-4124-A116-479C2DDD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5CC042-EE03-4DC4-8A22-31BB4498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C3D621-0295-4363-B5DF-0995C963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E618E7-90A1-4931-98E6-11C3B217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BD1776-7250-47D0-A71D-D3C9BD43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7644E9-3BB8-484B-B8E5-395038D1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C62EB7-7FF4-47EF-BFA8-2434307A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6CA9E8-29EA-4DC3-9372-20E04759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A20163-6C12-4DF2-8278-7E5C95AD1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20C3B2-E474-4B57-A368-0ABD26521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E365D1-CD24-459E-A60D-4ECC721FC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5D04F-7C4F-4578-81BD-D4A9913A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D8AC8A-14F8-4F64-B2A8-BF6F22A1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751F01-4496-4F24-BDC3-375A7A48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68E91E-D025-49A8-80CE-83FA4363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B4C0EE-626A-4E12-ABC9-31B421A1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24EF7F-C019-4969-9EB0-B349860A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8C8870-9032-450E-B5E6-3FC074C7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DDD03B-89A1-4982-AD8A-F8BB5EF5DB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17B0B-B9BF-421F-85C6-2458C1BECE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2D91C-3D22-4DCE-9085-F6C58435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69DA8-1106-444D-8728-2B46FC07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26AC8-E8BE-4E8D-A7EA-5B1C84DD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6160F-5D30-41A6-835F-B169D701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EA523-5FB9-40E2-A5E5-012D3863E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21804-69AF-4EE8-B843-725D6F971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3E2E0-F981-4485-B4A5-BA36CC12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C7C94-F0DF-4766-923C-F8C8C541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4C32C-579D-4AB9-A611-2A91DA68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EE612-BA87-4CA1-BE6F-48585E81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49AE1-0D78-4F00-832A-430F8396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CC13B-57A7-4328-B7E5-5C8BE7E0A8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000850-B0A1-4246-8A69-E7360651ED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6D545-9353-4A9D-88A6-72027CCA5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15492D-0EBE-4D86-AF5E-6F6EEFC2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9B75BD-5C03-4B18-AB8D-9485E1CA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922BEA-B5D3-47F4-B31C-2596B9C4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29A068-3115-405D-8E91-1FF9C127B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8E824C-A57F-414C-B68D-B9AA03A0A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B1A6EF-1084-4BF8-BA40-8A43482F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897A08-10DA-492F-97B0-E8EB9202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42E8B8-1635-416B-AF49-2E466AA6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EE11FD-58E0-4DD8-AE73-2DB0D91F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A745A7-CAB5-4BD3-BE4E-C7AE271E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79062-4FA1-4C97-93C6-CF1194F68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7AB625-9DDB-46B3-9357-94E94001B5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DFA4F8-3BDC-414D-99B6-A6574C453A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2CFBD9-0ED2-40AE-B273-E908C280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A925C3-B727-490C-A374-649C2150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FEEE9F-A1D9-46AE-BCF6-C7502205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527F3F-725F-4625-A95A-09004C044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B07544-F0CF-4243-B368-ED1FCC5D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B52E60-1327-4E87-8380-B8E9E11C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75E1B4-7CFA-42BE-B0BE-1A245C16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09B424-91EB-4AAB-B3BD-26625D5F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29F7D-6022-4860-B9A5-781793E6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0AC9DE-3847-442A-9DA3-ACEB6819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261D84-3F1C-45DA-BFC1-6CB03338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9AAB9B-6BFA-4DD9-82AD-6E25D48489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3A242-4440-4A3D-8DCC-5D6ABC92D1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C505C-DC14-45F8-9E20-09DB8C01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3319F-0202-4492-BAF3-68D45186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D45F5-3529-4DE7-B107-F02008FC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D06D7-A926-440E-A037-98614A5C6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E1CB7-7521-4DAD-ACBB-30CF59E53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6E671-7BEE-45BD-90F3-BBBA1F23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DEE7F-09E1-4F64-B988-C8101AA3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CE012-7963-4E8A-8765-0C7FD1BC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1C451-6EEA-4428-89DB-E264BB65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3E835-0156-4857-A2BB-BE66B744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8E81D-B980-4BE3-B4A5-DF469FED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F2036-3E77-4EAC-8152-3C27CCD41A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9BE64F-FF70-474C-9A66-28C9D58352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A366C1-BC67-4B2F-AD63-F4EF82BA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4038C9-7E63-4236-9BE4-DE1198CD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14AECD-7758-4CEC-9497-67367055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88C1CF-97D9-4029-BEBF-EFB3131D0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5E2D1-E50C-4703-9B14-3E5D6861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13C5AB-176A-48E8-B031-0DDC491A9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B1E001-E5FF-4597-AEF0-B4512E27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6F71CE-E809-43A9-8537-B2B30664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F20636-AFB0-4987-9412-E748AF84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AC1668-6A5A-479E-89E4-55A98353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835B03-4219-4B63-A1C2-BC074D13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E3CB3F-1F0D-4FD0-B535-9E3D0DFFED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4CEFFB-477B-4FB6-B4F3-622824D756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ABA914-76DC-4EFA-BC58-5C027288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986F7F-B857-4B65-9418-68CC54E1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48BA-37F4-49AD-B5D4-B07374E0E59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46BA-6254-4B86-924D-4D24A69AA4E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37CA-4506-42FF-A5E0-0D1ACA93229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EA15-4A44-49BD-A15C-365210E4F5A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3A41-1294-436E-9035-A841E0E1FFA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CFCC-328F-4EB6-9F3F-7E5B964FB39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5565-5598-41CE-A91C-F43F14D6FBB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6501-1603-4945-92B7-05DB2644B78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4D67-9995-433A-8DA6-A7EF7222EED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2DE1-6276-4768-8D6F-787640FFA50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8EEC-9840-4EB9-B040-955E96D520C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5F85-34C9-48C1-8A81-EB95934C6C9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9B56-B701-4556-B082-FDF685B6CC5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AF8A-B266-4990-B9BB-41952303D5B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B0E2-146A-45FC-8C30-DEE2ECA4337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F43E-C66D-4B97-8781-FC2CA0D40DA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338A-531E-45E7-81FD-2559EC1D637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E80F-686A-42B1-9EBB-AF882CF92A0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FAAF-1457-4E3D-BB65-C0A5D29D9BB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0EC6-7198-4E74-8C98-264656EF1BB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D2ED-476F-4F96-8355-3C3BCFBB839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E3D6-12D5-4B19-BCB3-1F9797CF010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BAAE-65AF-4287-A7CB-813D522BA6E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A166-9B07-4FB0-987F-B5F4CFDD93C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2.jpe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四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271600" y="2689200"/>
            <a:ext cx="55908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52440" y="2647800"/>
            <a:ext cx="8445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条 形 统 计 图（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3863880" cy="360"/>
            <a:chOff x="2284560" y="2448000"/>
            <a:chExt cx="386388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38638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3863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1100160" y="1744560"/>
            <a:ext cx="792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条形统计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TextBox 3"/>
          <p:cNvSpPr/>
          <p:nvPr/>
        </p:nvSpPr>
        <p:spPr>
          <a:xfrm>
            <a:off x="436680" y="79200"/>
            <a:ext cx="20714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创设情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0" name="图片 5" descr="79.jpg"/>
          <p:cNvPicPr/>
          <p:nvPr/>
        </p:nvPicPr>
        <p:blipFill>
          <a:blip r:embed="rId8"/>
          <a:stretch/>
        </p:blipFill>
        <p:spPr>
          <a:xfrm>
            <a:off x="1287360" y="1093680"/>
            <a:ext cx="6572520" cy="3549600"/>
          </a:xfrm>
          <a:prstGeom prst="rect">
            <a:avLst/>
          </a:prstGeom>
          <a:ln w="0">
            <a:noFill/>
          </a:ln>
        </p:spPr>
      </p:pic>
      <p:sp>
        <p:nvSpPr>
          <p:cNvPr id="1011" name="TextBox 6"/>
          <p:cNvSpPr/>
          <p:nvPr/>
        </p:nvSpPr>
        <p:spPr>
          <a:xfrm>
            <a:off x="785880" y="4786200"/>
            <a:ext cx="50022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这是北京市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月的天气情况，从图上你能知道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哪些信息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八边形 7"/>
          <p:cNvSpPr/>
          <p:nvPr/>
        </p:nvSpPr>
        <p:spPr>
          <a:xfrm>
            <a:off x="385920" y="779400"/>
            <a:ext cx="52200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TextBox 1"/>
          <p:cNvSpPr/>
          <p:nvPr/>
        </p:nvSpPr>
        <p:spPr>
          <a:xfrm>
            <a:off x="500040" y="573120"/>
            <a:ext cx="7797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把这些天气情况进行归类，把每种天气各有多少天清楚地表示出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4" name=""/>
          <p:cNvGraphicFramePr/>
          <p:nvPr/>
        </p:nvGraphicFramePr>
        <p:xfrm>
          <a:off x="1833480" y="1800360"/>
          <a:ext cx="6095880" cy="103644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6280"/>
                <a:gridCol w="1015920"/>
                <a:gridCol w="1015920"/>
                <a:gridCol w="1015920"/>
              </a:tblGrid>
              <a:tr h="517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5" name="TextBox 3"/>
          <p:cNvSpPr/>
          <p:nvPr/>
        </p:nvSpPr>
        <p:spPr>
          <a:xfrm>
            <a:off x="1905120" y="1800360"/>
            <a:ext cx="914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天 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Box 4"/>
          <p:cNvSpPr/>
          <p:nvPr/>
        </p:nvSpPr>
        <p:spPr>
          <a:xfrm>
            <a:off x="1905120" y="2286000"/>
            <a:ext cx="914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天 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Box 5"/>
          <p:cNvSpPr/>
          <p:nvPr/>
        </p:nvSpPr>
        <p:spPr>
          <a:xfrm>
            <a:off x="3073320" y="1800360"/>
            <a:ext cx="546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Box 6"/>
          <p:cNvSpPr/>
          <p:nvPr/>
        </p:nvSpPr>
        <p:spPr>
          <a:xfrm>
            <a:off x="3146400" y="2286000"/>
            <a:ext cx="401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方正楷体简体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Box 15"/>
          <p:cNvSpPr/>
          <p:nvPr/>
        </p:nvSpPr>
        <p:spPr>
          <a:xfrm>
            <a:off x="4119480" y="1800360"/>
            <a:ext cx="546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Box 16"/>
          <p:cNvSpPr/>
          <p:nvPr/>
        </p:nvSpPr>
        <p:spPr>
          <a:xfrm>
            <a:off x="4191120" y="2286000"/>
            <a:ext cx="4032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方正楷体简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Box 17"/>
          <p:cNvSpPr/>
          <p:nvPr/>
        </p:nvSpPr>
        <p:spPr>
          <a:xfrm>
            <a:off x="5003640" y="1800360"/>
            <a:ext cx="544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多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Box 18"/>
          <p:cNvSpPr/>
          <p:nvPr/>
        </p:nvSpPr>
        <p:spPr>
          <a:xfrm>
            <a:off x="5213520" y="2286000"/>
            <a:ext cx="4032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方正楷体简体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Box 19"/>
          <p:cNvSpPr/>
          <p:nvPr/>
        </p:nvSpPr>
        <p:spPr>
          <a:xfrm>
            <a:off x="6026040" y="1800360"/>
            <a:ext cx="546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阵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Box 20"/>
          <p:cNvSpPr/>
          <p:nvPr/>
        </p:nvSpPr>
        <p:spPr>
          <a:xfrm>
            <a:off x="6224760" y="2286000"/>
            <a:ext cx="4032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方正楷体简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Box 21"/>
          <p:cNvSpPr/>
          <p:nvPr/>
        </p:nvSpPr>
        <p:spPr>
          <a:xfrm>
            <a:off x="6861240" y="1800360"/>
            <a:ext cx="544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雷阵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Box 22"/>
          <p:cNvSpPr/>
          <p:nvPr/>
        </p:nvSpPr>
        <p:spPr>
          <a:xfrm>
            <a:off x="7254720" y="2286000"/>
            <a:ext cx="403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方正楷体简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7" name="组合 84"/>
          <p:cNvGrpSpPr/>
          <p:nvPr/>
        </p:nvGrpSpPr>
        <p:grpSpPr>
          <a:xfrm>
            <a:off x="108000" y="1101600"/>
            <a:ext cx="3692520" cy="1370160"/>
            <a:chOff x="108000" y="1101600"/>
            <a:chExt cx="3692520" cy="1370160"/>
          </a:xfrm>
        </p:grpSpPr>
        <p:sp>
          <p:nvSpPr>
            <p:cNvPr id="1028" name="TextBox 23"/>
            <p:cNvSpPr/>
            <p:nvPr/>
          </p:nvSpPr>
          <p:spPr>
            <a:xfrm>
              <a:off x="1157040" y="1112760"/>
              <a:ext cx="26434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我用统计表表示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圆角矩形标注 24"/>
            <p:cNvSpPr/>
            <p:nvPr/>
          </p:nvSpPr>
          <p:spPr>
            <a:xfrm>
              <a:off x="1179720" y="1101600"/>
              <a:ext cx="2500560" cy="500040"/>
            </a:xfrm>
            <a:prstGeom prst="wedgeRoundRectCallout">
              <a:avLst>
                <a:gd name="adj1" fmla="val -47925"/>
                <a:gd name="adj2" fmla="val 80555"/>
                <a:gd name="adj3" fmla="val 16667"/>
              </a:avLst>
            </a:prstGeom>
            <a:noFill/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0" name="图片 25" descr="80.jpg"/>
            <p:cNvPicPr/>
            <p:nvPr/>
          </p:nvPicPr>
          <p:blipFill>
            <a:blip r:embed="rId1"/>
            <a:stretch/>
          </p:blipFill>
          <p:spPr>
            <a:xfrm flipH="1">
              <a:off x="108000" y="1157760"/>
              <a:ext cx="1044000" cy="131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1" name="TextBox 26"/>
            <p:cNvSpPr/>
            <p:nvPr/>
          </p:nvSpPr>
          <p:spPr>
            <a:xfrm>
              <a:off x="784800" y="1898640"/>
              <a:ext cx="7858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小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组合 85"/>
          <p:cNvGrpSpPr/>
          <p:nvPr/>
        </p:nvGrpSpPr>
        <p:grpSpPr>
          <a:xfrm>
            <a:off x="5481720" y="2943360"/>
            <a:ext cx="3165480" cy="1785960"/>
            <a:chOff x="5481720" y="2943360"/>
            <a:chExt cx="3165480" cy="1785960"/>
          </a:xfrm>
        </p:grpSpPr>
        <p:grpSp>
          <p:nvGrpSpPr>
            <p:cNvPr id="1033" name="组合 82"/>
            <p:cNvGrpSpPr/>
            <p:nvPr/>
          </p:nvGrpSpPr>
          <p:grpSpPr>
            <a:xfrm>
              <a:off x="5481720" y="2943360"/>
              <a:ext cx="3165480" cy="1589400"/>
              <a:chOff x="5481720" y="2943360"/>
              <a:chExt cx="3165480" cy="1589400"/>
            </a:xfrm>
          </p:grpSpPr>
          <p:sp>
            <p:nvSpPr>
              <p:cNvPr id="1034" name="TextBox 79"/>
              <p:cNvSpPr/>
              <p:nvPr/>
            </p:nvSpPr>
            <p:spPr>
              <a:xfrm>
                <a:off x="5481720" y="3597480"/>
                <a:ext cx="1951200" cy="5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楷体简体"/>
                    <a:ea typeface="方正楷体简体"/>
                  </a:rPr>
                  <a:t>我这样表示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圆角矩形标注 80"/>
              <p:cNvSpPr/>
              <p:nvPr/>
            </p:nvSpPr>
            <p:spPr>
              <a:xfrm>
                <a:off x="5504040" y="3586320"/>
                <a:ext cx="1928520" cy="500040"/>
              </a:xfrm>
              <a:prstGeom prst="wedgeRoundRectCallout">
                <a:avLst>
                  <a:gd name="adj1" fmla="val 58592"/>
                  <a:gd name="adj2" fmla="val -712"/>
                  <a:gd name="adj3" fmla="val 16667"/>
                </a:avLst>
              </a:prstGeom>
              <a:noFill/>
              <a:ln w="25560">
                <a:solidFill>
                  <a:srgbClr val="395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6" name="图片 81" descr="小女孩.jpg"/>
              <p:cNvPicPr/>
              <p:nvPr/>
            </p:nvPicPr>
            <p:blipFill>
              <a:blip r:embed="rId2"/>
              <a:stretch/>
            </p:blipFill>
            <p:spPr>
              <a:xfrm flipH="1">
                <a:off x="7647120" y="2943360"/>
                <a:ext cx="1000080" cy="158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37" name="TextBox 83"/>
            <p:cNvSpPr/>
            <p:nvPr/>
          </p:nvSpPr>
          <p:spPr>
            <a:xfrm>
              <a:off x="7218720" y="4229280"/>
              <a:ext cx="7855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小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组合 88"/>
          <p:cNvGrpSpPr/>
          <p:nvPr/>
        </p:nvGrpSpPr>
        <p:grpSpPr>
          <a:xfrm>
            <a:off x="928800" y="3014640"/>
            <a:ext cx="3882960" cy="3333600"/>
            <a:chOff x="928800" y="3014640"/>
            <a:chExt cx="3882960" cy="3333600"/>
          </a:xfrm>
        </p:grpSpPr>
        <p:grpSp>
          <p:nvGrpSpPr>
            <p:cNvPr id="1039" name="组合 86"/>
            <p:cNvGrpSpPr/>
            <p:nvPr/>
          </p:nvGrpSpPr>
          <p:grpSpPr>
            <a:xfrm>
              <a:off x="928800" y="3014640"/>
              <a:ext cx="3882960" cy="3333600"/>
              <a:chOff x="928800" y="3014640"/>
              <a:chExt cx="3882960" cy="3333600"/>
            </a:xfrm>
          </p:grpSpPr>
          <p:grpSp>
            <p:nvGrpSpPr>
              <p:cNvPr id="1040" name=""/>
              <p:cNvGrpSpPr/>
              <p:nvPr/>
            </p:nvGrpSpPr>
            <p:grpSpPr>
              <a:xfrm>
                <a:off x="928800" y="5929200"/>
                <a:ext cx="3882960" cy="360"/>
                <a:chOff x="928800" y="5929200"/>
                <a:chExt cx="3882960" cy="360"/>
              </a:xfrm>
            </p:grpSpPr>
            <p:sp>
              <p:nvSpPr>
                <p:cNvPr id="1041" name="直接连接符 28"/>
                <p:cNvSpPr/>
                <p:nvPr/>
              </p:nvSpPr>
              <p:spPr>
                <a:xfrm>
                  <a:off x="928800" y="5929200"/>
                  <a:ext cx="3882960" cy="0"/>
                </a:xfrm>
                <a:prstGeom prst="line">
                  <a:avLst/>
                </a:prstGeom>
                <a:ln w="1908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"/>
                <p:cNvSpPr txBox="1"/>
                <p:nvPr/>
              </p:nvSpPr>
              <p:spPr>
                <a:xfrm>
                  <a:off x="928800" y="5929200"/>
                  <a:ext cx="3882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3" name="椭圆 29"/>
              <p:cNvSpPr/>
              <p:nvPr/>
            </p:nvSpPr>
            <p:spPr>
              <a:xfrm>
                <a:off x="1257120" y="5605200"/>
                <a:ext cx="254520" cy="258840"/>
              </a:xfrm>
              <a:prstGeom prst="ellipse">
                <a:avLst/>
              </a:prstGeom>
              <a:noFill/>
              <a:ln w="25560">
                <a:solidFill>
                  <a:srgbClr val="395e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椭圆 30"/>
              <p:cNvSpPr/>
              <p:nvPr/>
            </p:nvSpPr>
            <p:spPr>
              <a:xfrm>
                <a:off x="1257120" y="5281560"/>
                <a:ext cx="254520" cy="258840"/>
              </a:xfrm>
              <a:prstGeom prst="ellipse">
                <a:avLst/>
              </a:prstGeom>
              <a:noFill/>
              <a:ln w="25560">
                <a:solidFill>
                  <a:srgbClr val="395e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椭圆 31"/>
              <p:cNvSpPr/>
              <p:nvPr/>
            </p:nvSpPr>
            <p:spPr>
              <a:xfrm>
                <a:off x="1257120" y="4957560"/>
                <a:ext cx="254520" cy="258840"/>
              </a:xfrm>
              <a:prstGeom prst="ellipse">
                <a:avLst/>
              </a:prstGeom>
              <a:noFill/>
              <a:ln w="25560">
                <a:solidFill>
                  <a:srgbClr val="395e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椭圆 32"/>
              <p:cNvSpPr/>
              <p:nvPr/>
            </p:nvSpPr>
            <p:spPr>
              <a:xfrm>
                <a:off x="1257120" y="4633560"/>
                <a:ext cx="254520" cy="258840"/>
              </a:xfrm>
              <a:prstGeom prst="ellipse">
                <a:avLst/>
              </a:prstGeom>
              <a:noFill/>
              <a:ln w="25560">
                <a:solidFill>
                  <a:srgbClr val="395e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椭圆 33"/>
              <p:cNvSpPr/>
              <p:nvPr/>
            </p:nvSpPr>
            <p:spPr>
              <a:xfrm>
                <a:off x="1257120" y="4309920"/>
                <a:ext cx="254520" cy="258840"/>
              </a:xfrm>
              <a:prstGeom prst="ellipse">
                <a:avLst/>
              </a:prstGeom>
              <a:noFill/>
              <a:ln w="25560">
                <a:solidFill>
                  <a:srgbClr val="395e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椭圆 34"/>
              <p:cNvSpPr/>
              <p:nvPr/>
            </p:nvSpPr>
            <p:spPr>
              <a:xfrm>
                <a:off x="1257120" y="3985920"/>
                <a:ext cx="254520" cy="258840"/>
              </a:xfrm>
              <a:prstGeom prst="ellipse">
                <a:avLst/>
              </a:prstGeom>
              <a:noFill/>
              <a:ln w="25560">
                <a:solidFill>
                  <a:srgbClr val="395e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椭圆 35"/>
              <p:cNvSpPr/>
              <p:nvPr/>
            </p:nvSpPr>
            <p:spPr>
              <a:xfrm>
                <a:off x="1257120" y="3662280"/>
                <a:ext cx="254520" cy="258840"/>
              </a:xfrm>
              <a:prstGeom prst="ellipse">
                <a:avLst/>
              </a:prstGeom>
              <a:noFill/>
              <a:ln w="25560">
                <a:solidFill>
                  <a:srgbClr val="395e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椭圆 36"/>
              <p:cNvSpPr/>
              <p:nvPr/>
            </p:nvSpPr>
            <p:spPr>
              <a:xfrm>
                <a:off x="1257120" y="3338280"/>
                <a:ext cx="254520" cy="258840"/>
              </a:xfrm>
              <a:prstGeom prst="ellipse">
                <a:avLst/>
              </a:prstGeom>
              <a:noFill/>
              <a:ln w="25560">
                <a:solidFill>
                  <a:srgbClr val="395e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椭圆 37"/>
              <p:cNvSpPr/>
              <p:nvPr/>
            </p:nvSpPr>
            <p:spPr>
              <a:xfrm>
                <a:off x="1257120" y="3014640"/>
                <a:ext cx="254520" cy="258840"/>
              </a:xfrm>
              <a:prstGeom prst="ellipse">
                <a:avLst/>
              </a:prstGeom>
              <a:noFill/>
              <a:ln w="25560">
                <a:solidFill>
                  <a:srgbClr val="395e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椭圆 38"/>
              <p:cNvSpPr/>
              <p:nvPr/>
            </p:nvSpPr>
            <p:spPr>
              <a:xfrm>
                <a:off x="1990800" y="5605200"/>
                <a:ext cx="254520" cy="258840"/>
              </a:xfrm>
              <a:prstGeom prst="ellipse">
                <a:avLst/>
              </a:prstGeom>
              <a:noFill/>
              <a:ln w="25560">
                <a:solidFill>
                  <a:srgbClr val="395e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椭圆 39"/>
              <p:cNvSpPr/>
              <p:nvPr/>
            </p:nvSpPr>
            <p:spPr>
              <a:xfrm>
                <a:off x="1990800" y="5281560"/>
                <a:ext cx="254520" cy="258840"/>
              </a:xfrm>
              <a:prstGeom prst="ellipse">
                <a:avLst/>
              </a:prstGeom>
              <a:noFill/>
              <a:ln w="25560">
                <a:solidFill>
                  <a:srgbClr val="395e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椭圆 40"/>
              <p:cNvSpPr/>
              <p:nvPr/>
            </p:nvSpPr>
            <p:spPr>
              <a:xfrm>
                <a:off x="1990800" y="4957560"/>
                <a:ext cx="254520" cy="258840"/>
              </a:xfrm>
              <a:prstGeom prst="ellipse">
                <a:avLst/>
              </a:prstGeom>
              <a:noFill/>
              <a:ln w="25560">
                <a:solidFill>
                  <a:srgbClr val="395e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椭圆 41"/>
              <p:cNvSpPr/>
              <p:nvPr/>
            </p:nvSpPr>
            <p:spPr>
              <a:xfrm>
                <a:off x="1990800" y="4633560"/>
                <a:ext cx="254520" cy="258840"/>
              </a:xfrm>
              <a:prstGeom prst="ellipse">
                <a:avLst/>
              </a:prstGeom>
              <a:noFill/>
              <a:ln w="25560">
                <a:solidFill>
                  <a:srgbClr val="395e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椭圆 42"/>
              <p:cNvSpPr/>
              <p:nvPr/>
            </p:nvSpPr>
            <p:spPr>
              <a:xfrm>
                <a:off x="1990800" y="4309920"/>
                <a:ext cx="254520" cy="258840"/>
              </a:xfrm>
              <a:prstGeom prst="ellipse">
                <a:avLst/>
              </a:prstGeom>
              <a:noFill/>
              <a:ln w="25560">
                <a:solidFill>
                  <a:srgbClr val="395e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椭圆 43"/>
              <p:cNvSpPr/>
              <p:nvPr/>
            </p:nvSpPr>
            <p:spPr>
              <a:xfrm>
                <a:off x="1990800" y="3985920"/>
                <a:ext cx="254520" cy="258840"/>
              </a:xfrm>
              <a:prstGeom prst="ellipse">
                <a:avLst/>
              </a:prstGeom>
              <a:noFill/>
              <a:ln w="25560">
                <a:solidFill>
                  <a:srgbClr val="395e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椭圆 47"/>
              <p:cNvSpPr/>
              <p:nvPr/>
            </p:nvSpPr>
            <p:spPr>
              <a:xfrm>
                <a:off x="2724480" y="5605200"/>
                <a:ext cx="254520" cy="258840"/>
              </a:xfrm>
              <a:prstGeom prst="ellipse">
                <a:avLst/>
              </a:prstGeom>
              <a:noFill/>
              <a:ln w="25560">
                <a:solidFill>
                  <a:srgbClr val="395e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椭圆 48"/>
              <p:cNvSpPr/>
              <p:nvPr/>
            </p:nvSpPr>
            <p:spPr>
              <a:xfrm>
                <a:off x="2724480" y="5281560"/>
                <a:ext cx="254520" cy="258840"/>
              </a:xfrm>
              <a:prstGeom prst="ellipse">
                <a:avLst/>
              </a:prstGeom>
              <a:noFill/>
              <a:ln w="25560">
                <a:solidFill>
                  <a:srgbClr val="395e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椭圆 49"/>
              <p:cNvSpPr/>
              <p:nvPr/>
            </p:nvSpPr>
            <p:spPr>
              <a:xfrm>
                <a:off x="2724480" y="4957560"/>
                <a:ext cx="254520" cy="258840"/>
              </a:xfrm>
              <a:prstGeom prst="ellipse">
                <a:avLst/>
              </a:prstGeom>
              <a:noFill/>
              <a:ln w="25560">
                <a:solidFill>
                  <a:srgbClr val="395e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椭圆 50"/>
              <p:cNvSpPr/>
              <p:nvPr/>
            </p:nvSpPr>
            <p:spPr>
              <a:xfrm>
                <a:off x="2724480" y="4633560"/>
                <a:ext cx="254520" cy="258840"/>
              </a:xfrm>
              <a:prstGeom prst="ellipse">
                <a:avLst/>
              </a:prstGeom>
              <a:noFill/>
              <a:ln w="25560">
                <a:solidFill>
                  <a:srgbClr val="395e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椭圆 51"/>
              <p:cNvSpPr/>
              <p:nvPr/>
            </p:nvSpPr>
            <p:spPr>
              <a:xfrm>
                <a:off x="2724480" y="4309920"/>
                <a:ext cx="254520" cy="258840"/>
              </a:xfrm>
              <a:prstGeom prst="ellipse">
                <a:avLst/>
              </a:prstGeom>
              <a:noFill/>
              <a:ln w="25560">
                <a:solidFill>
                  <a:srgbClr val="395e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椭圆 52"/>
              <p:cNvSpPr/>
              <p:nvPr/>
            </p:nvSpPr>
            <p:spPr>
              <a:xfrm>
                <a:off x="2724480" y="3985920"/>
                <a:ext cx="254520" cy="258840"/>
              </a:xfrm>
              <a:prstGeom prst="ellipse">
                <a:avLst/>
              </a:prstGeom>
              <a:noFill/>
              <a:ln w="25560">
                <a:solidFill>
                  <a:srgbClr val="395e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椭圆 53"/>
              <p:cNvSpPr/>
              <p:nvPr/>
            </p:nvSpPr>
            <p:spPr>
              <a:xfrm>
                <a:off x="2724480" y="3662280"/>
                <a:ext cx="254520" cy="258840"/>
              </a:xfrm>
              <a:prstGeom prst="ellipse">
                <a:avLst/>
              </a:prstGeom>
              <a:noFill/>
              <a:ln w="25560">
                <a:solidFill>
                  <a:srgbClr val="395e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椭圆 54"/>
              <p:cNvSpPr/>
              <p:nvPr/>
            </p:nvSpPr>
            <p:spPr>
              <a:xfrm>
                <a:off x="2724480" y="3338280"/>
                <a:ext cx="254520" cy="258840"/>
              </a:xfrm>
              <a:prstGeom prst="ellipse">
                <a:avLst/>
              </a:prstGeom>
              <a:noFill/>
              <a:ln w="25560">
                <a:solidFill>
                  <a:srgbClr val="395e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椭圆 55"/>
              <p:cNvSpPr/>
              <p:nvPr/>
            </p:nvSpPr>
            <p:spPr>
              <a:xfrm>
                <a:off x="2724480" y="3014640"/>
                <a:ext cx="254520" cy="258840"/>
              </a:xfrm>
              <a:prstGeom prst="ellipse">
                <a:avLst/>
              </a:prstGeom>
              <a:noFill/>
              <a:ln w="25560">
                <a:solidFill>
                  <a:srgbClr val="395e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椭圆 56"/>
              <p:cNvSpPr/>
              <p:nvPr/>
            </p:nvSpPr>
            <p:spPr>
              <a:xfrm>
                <a:off x="3458520" y="5605200"/>
                <a:ext cx="254520" cy="258840"/>
              </a:xfrm>
              <a:prstGeom prst="ellipse">
                <a:avLst/>
              </a:prstGeom>
              <a:noFill/>
              <a:ln w="25560">
                <a:solidFill>
                  <a:srgbClr val="395e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椭圆 57"/>
              <p:cNvSpPr/>
              <p:nvPr/>
            </p:nvSpPr>
            <p:spPr>
              <a:xfrm>
                <a:off x="3458520" y="5281560"/>
                <a:ext cx="254520" cy="258840"/>
              </a:xfrm>
              <a:prstGeom prst="ellipse">
                <a:avLst/>
              </a:prstGeom>
              <a:noFill/>
              <a:ln w="25560">
                <a:solidFill>
                  <a:srgbClr val="395e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椭圆 58"/>
              <p:cNvSpPr/>
              <p:nvPr/>
            </p:nvSpPr>
            <p:spPr>
              <a:xfrm>
                <a:off x="3458520" y="4957560"/>
                <a:ext cx="254520" cy="258840"/>
              </a:xfrm>
              <a:prstGeom prst="ellipse">
                <a:avLst/>
              </a:prstGeom>
              <a:noFill/>
              <a:ln w="25560">
                <a:solidFill>
                  <a:srgbClr val="395e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椭圆 59"/>
              <p:cNvSpPr/>
              <p:nvPr/>
            </p:nvSpPr>
            <p:spPr>
              <a:xfrm>
                <a:off x="3458520" y="4633560"/>
                <a:ext cx="254520" cy="258840"/>
              </a:xfrm>
              <a:prstGeom prst="ellipse">
                <a:avLst/>
              </a:prstGeom>
              <a:noFill/>
              <a:ln w="25560">
                <a:solidFill>
                  <a:srgbClr val="395e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椭圆 65"/>
              <p:cNvSpPr/>
              <p:nvPr/>
            </p:nvSpPr>
            <p:spPr>
              <a:xfrm>
                <a:off x="4192200" y="5605200"/>
                <a:ext cx="254520" cy="258840"/>
              </a:xfrm>
              <a:prstGeom prst="ellipse">
                <a:avLst/>
              </a:prstGeom>
              <a:noFill/>
              <a:ln w="25560">
                <a:solidFill>
                  <a:srgbClr val="395e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椭圆 66"/>
              <p:cNvSpPr/>
              <p:nvPr/>
            </p:nvSpPr>
            <p:spPr>
              <a:xfrm>
                <a:off x="4192200" y="5281560"/>
                <a:ext cx="254520" cy="258840"/>
              </a:xfrm>
              <a:prstGeom prst="ellipse">
                <a:avLst/>
              </a:prstGeom>
              <a:noFill/>
              <a:ln w="25560">
                <a:solidFill>
                  <a:srgbClr val="395e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TextBox 74"/>
              <p:cNvSpPr/>
              <p:nvPr/>
            </p:nvSpPr>
            <p:spPr>
              <a:xfrm>
                <a:off x="1156680" y="5895000"/>
                <a:ext cx="485640" cy="45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000000"/>
                    </a:solidFill>
                    <a:latin typeface="方正楷体简体"/>
                    <a:ea typeface="方正楷体简体"/>
                  </a:rPr>
                  <a:t>晴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TextBox 75"/>
              <p:cNvSpPr/>
              <p:nvPr/>
            </p:nvSpPr>
            <p:spPr>
              <a:xfrm>
                <a:off x="1883520" y="5895000"/>
                <a:ext cx="485640" cy="45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000000"/>
                    </a:solidFill>
                    <a:latin typeface="方正楷体简体"/>
                    <a:ea typeface="方正楷体简体"/>
                  </a:rPr>
                  <a:t>阴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TextBox 76"/>
              <p:cNvSpPr/>
              <p:nvPr/>
            </p:nvSpPr>
            <p:spPr>
              <a:xfrm>
                <a:off x="2476440" y="5895000"/>
                <a:ext cx="485640" cy="45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000000"/>
                    </a:solidFill>
                    <a:latin typeface="方正楷体简体"/>
                    <a:ea typeface="方正楷体简体"/>
                  </a:rPr>
                  <a:t>多云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TextBox 77"/>
              <p:cNvSpPr/>
              <p:nvPr/>
            </p:nvSpPr>
            <p:spPr>
              <a:xfrm>
                <a:off x="3220560" y="5895000"/>
                <a:ext cx="485640" cy="45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000000"/>
                    </a:solidFill>
                    <a:latin typeface="方正楷体简体"/>
                    <a:ea typeface="方正楷体简体"/>
                  </a:rPr>
                  <a:t>阵雨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TextBox 78"/>
              <p:cNvSpPr/>
              <p:nvPr/>
            </p:nvSpPr>
            <p:spPr>
              <a:xfrm>
                <a:off x="3857040" y="5895000"/>
                <a:ext cx="485640" cy="45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000000"/>
                    </a:solidFill>
                    <a:latin typeface="方正楷体简体"/>
                    <a:ea typeface="方正楷体简体"/>
                  </a:rPr>
                  <a:t>雷阵雨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8" name="椭圆 87"/>
            <p:cNvSpPr/>
            <p:nvPr/>
          </p:nvSpPr>
          <p:spPr>
            <a:xfrm>
              <a:off x="3458520" y="4309920"/>
              <a:ext cx="254520" cy="258840"/>
            </a:xfrm>
            <a:prstGeom prst="ellipse">
              <a:avLst/>
            </a:prstGeom>
            <a:noFill/>
            <a:ln w="25560">
              <a:solidFill>
                <a:srgbClr val="395e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9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80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1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82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3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4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5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6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7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8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9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90" name="TextBox 1"/>
          <p:cNvSpPr/>
          <p:nvPr/>
        </p:nvSpPr>
        <p:spPr>
          <a:xfrm>
            <a:off x="428760" y="85680"/>
            <a:ext cx="20714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教学新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1" name="图片 4" descr="81.jpg"/>
          <p:cNvPicPr/>
          <p:nvPr/>
        </p:nvPicPr>
        <p:blipFill>
          <a:blip r:embed="rId8"/>
          <a:stretch/>
        </p:blipFill>
        <p:spPr>
          <a:xfrm>
            <a:off x="785880" y="728640"/>
            <a:ext cx="4189320" cy="2771640"/>
          </a:xfrm>
          <a:prstGeom prst="rect">
            <a:avLst/>
          </a:prstGeom>
          <a:ln w="0">
            <a:noFill/>
          </a:ln>
        </p:spPr>
      </p:pic>
      <p:grpSp>
        <p:nvGrpSpPr>
          <p:cNvPr id="1092" name="组合 8"/>
          <p:cNvGrpSpPr/>
          <p:nvPr/>
        </p:nvGrpSpPr>
        <p:grpSpPr>
          <a:xfrm>
            <a:off x="5500800" y="1228680"/>
            <a:ext cx="3071880" cy="1523880"/>
            <a:chOff x="5500800" y="1228680"/>
            <a:chExt cx="3071880" cy="1523880"/>
          </a:xfrm>
        </p:grpSpPr>
        <p:pic>
          <p:nvPicPr>
            <p:cNvPr id="1093" name="图片 7" descr="000.gif"/>
            <p:cNvPicPr/>
            <p:nvPr/>
          </p:nvPicPr>
          <p:blipFill>
            <a:blip r:embed="rId9"/>
            <a:stretch/>
          </p:blipFill>
          <p:spPr>
            <a:xfrm>
              <a:off x="7643880" y="1729080"/>
              <a:ext cx="928800" cy="102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4" name="TextBox 5"/>
            <p:cNvSpPr/>
            <p:nvPr/>
          </p:nvSpPr>
          <p:spPr>
            <a:xfrm>
              <a:off x="5500800" y="1228680"/>
              <a:ext cx="2214720" cy="8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还可以用条形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图来表示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圆角矩形标注 6"/>
            <p:cNvSpPr/>
            <p:nvPr/>
          </p:nvSpPr>
          <p:spPr>
            <a:xfrm>
              <a:off x="5500800" y="1228680"/>
              <a:ext cx="2071800" cy="929160"/>
            </a:xfrm>
            <a:prstGeom prst="wedgeRoundRectCallout">
              <a:avLst>
                <a:gd name="adj1" fmla="val 51092"/>
                <a:gd name="adj2" fmla="val 72222"/>
                <a:gd name="adj3" fmla="val 16667"/>
              </a:avLst>
            </a:prstGeom>
            <a:noFill/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6" name="TextBox 9"/>
          <p:cNvSpPr/>
          <p:nvPr/>
        </p:nvSpPr>
        <p:spPr>
          <a:xfrm>
            <a:off x="642960" y="3571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仔细观察这个统计图，你能知道些什么信息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Box 10"/>
          <p:cNvSpPr/>
          <p:nvPr/>
        </p:nvSpPr>
        <p:spPr>
          <a:xfrm>
            <a:off x="500040" y="5000760"/>
            <a:ext cx="9144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条形图和统计表各有什么特点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Box 10"/>
          <p:cNvSpPr/>
          <p:nvPr/>
        </p:nvSpPr>
        <p:spPr>
          <a:xfrm>
            <a:off x="500040" y="4000680"/>
            <a:ext cx="9144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画○的方法和条形统计图相比，哪种表示得更清楚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Box 4"/>
          <p:cNvSpPr/>
          <p:nvPr/>
        </p:nvSpPr>
        <p:spPr>
          <a:xfrm>
            <a:off x="1492200" y="442908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条形条形图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Box 4"/>
          <p:cNvSpPr/>
          <p:nvPr/>
        </p:nvSpPr>
        <p:spPr>
          <a:xfrm>
            <a:off x="1438200" y="550080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条形图能够直观地反映各变量的数量差异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统计表的特点是详细，便于分析研究各类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TextBox 1"/>
          <p:cNvSpPr/>
          <p:nvPr/>
        </p:nvSpPr>
        <p:spPr>
          <a:xfrm>
            <a:off x="714240" y="785880"/>
            <a:ext cx="773748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  </a:t>
            </a: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条形图左边竖线上标出的数据表示的是天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方正楷体简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格表示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方正楷体简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天），下边横线上标出的是几种天气。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种天气所对的涂色的竖条占了几格就表示几天，也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以看相对的涂色竖条最上面对着左边的数字几就是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天，从条形统计图上不但能看出具体的数据，还能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出谁多谁少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TextBox 4"/>
          <p:cNvSpPr/>
          <p:nvPr/>
        </p:nvSpPr>
        <p:spPr>
          <a:xfrm>
            <a:off x="714240" y="712800"/>
            <a:ext cx="435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统计一下本班同学出生的月份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3" name="组合 24"/>
          <p:cNvGrpSpPr/>
          <p:nvPr/>
        </p:nvGrpSpPr>
        <p:grpSpPr>
          <a:xfrm>
            <a:off x="857160" y="1284120"/>
            <a:ext cx="6029280" cy="3372120"/>
            <a:chOff x="857160" y="1284120"/>
            <a:chExt cx="6029280" cy="3372120"/>
          </a:xfrm>
        </p:grpSpPr>
        <p:pic>
          <p:nvPicPr>
            <p:cNvPr id="1104" name="图片 6" descr="83.jpg"/>
            <p:cNvPicPr/>
            <p:nvPr/>
          </p:nvPicPr>
          <p:blipFill>
            <a:blip r:embed="rId1"/>
            <a:stretch/>
          </p:blipFill>
          <p:spPr>
            <a:xfrm>
              <a:off x="857160" y="1284120"/>
              <a:ext cx="4168800" cy="337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5" name="图片 7" descr="234768-14051F0212184.jpg"/>
            <p:cNvPicPr/>
            <p:nvPr/>
          </p:nvPicPr>
          <p:blipFill>
            <a:blip r:embed="rId2"/>
            <a:stretch/>
          </p:blipFill>
          <p:spPr>
            <a:xfrm>
              <a:off x="5522400" y="1771920"/>
              <a:ext cx="1364040" cy="20905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06" name=""/>
          <p:cNvGraphicFramePr/>
          <p:nvPr/>
        </p:nvGraphicFramePr>
        <p:xfrm>
          <a:off x="428760" y="4782960"/>
          <a:ext cx="8216640" cy="1036800"/>
        </p:xfrm>
        <a:graphic>
          <a:graphicData uri="http://schemas.openxmlformats.org/drawingml/2006/table">
            <a:tbl>
              <a:tblPr/>
              <a:tblGrid>
                <a:gridCol w="1053720"/>
                <a:gridCol w="561960"/>
                <a:gridCol w="561960"/>
                <a:gridCol w="561960"/>
                <a:gridCol w="561960"/>
                <a:gridCol w="561960"/>
                <a:gridCol w="561960"/>
                <a:gridCol w="561960"/>
                <a:gridCol w="561960"/>
                <a:gridCol w="561960"/>
                <a:gridCol w="561960"/>
                <a:gridCol w="771840"/>
                <a:gridCol w="7714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07" name="组合 26"/>
          <p:cNvGrpSpPr/>
          <p:nvPr/>
        </p:nvGrpSpPr>
        <p:grpSpPr>
          <a:xfrm>
            <a:off x="368280" y="4782960"/>
            <a:ext cx="8204400" cy="1024200"/>
            <a:chOff x="368280" y="4782960"/>
            <a:chExt cx="8204400" cy="1024200"/>
          </a:xfrm>
        </p:grpSpPr>
        <p:sp>
          <p:nvSpPr>
            <p:cNvPr id="1108" name="TextBox 9"/>
            <p:cNvSpPr/>
            <p:nvPr/>
          </p:nvSpPr>
          <p:spPr>
            <a:xfrm>
              <a:off x="368280" y="4782960"/>
              <a:ext cx="1143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出生月份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Box 10"/>
            <p:cNvSpPr/>
            <p:nvPr/>
          </p:nvSpPr>
          <p:spPr>
            <a:xfrm>
              <a:off x="405000" y="5378400"/>
              <a:ext cx="1143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人  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TextBox 11"/>
            <p:cNvSpPr/>
            <p:nvPr/>
          </p:nvSpPr>
          <p:spPr>
            <a:xfrm>
              <a:off x="1556280" y="4782960"/>
              <a:ext cx="4284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一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TextBox 12"/>
            <p:cNvSpPr/>
            <p:nvPr/>
          </p:nvSpPr>
          <p:spPr>
            <a:xfrm>
              <a:off x="2105280" y="4782960"/>
              <a:ext cx="4284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二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TextBox 13"/>
            <p:cNvSpPr/>
            <p:nvPr/>
          </p:nvSpPr>
          <p:spPr>
            <a:xfrm>
              <a:off x="2676960" y="4794120"/>
              <a:ext cx="4284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三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TextBox 14"/>
            <p:cNvSpPr/>
            <p:nvPr/>
          </p:nvSpPr>
          <p:spPr>
            <a:xfrm>
              <a:off x="3240720" y="4782960"/>
              <a:ext cx="4284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四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TextBox 15"/>
            <p:cNvSpPr/>
            <p:nvPr/>
          </p:nvSpPr>
          <p:spPr>
            <a:xfrm>
              <a:off x="3786120" y="4782960"/>
              <a:ext cx="4284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五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TextBox 16"/>
            <p:cNvSpPr/>
            <p:nvPr/>
          </p:nvSpPr>
          <p:spPr>
            <a:xfrm>
              <a:off x="4357800" y="4782960"/>
              <a:ext cx="4284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六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TextBox 17"/>
            <p:cNvSpPr/>
            <p:nvPr/>
          </p:nvSpPr>
          <p:spPr>
            <a:xfrm>
              <a:off x="4929120" y="4782960"/>
              <a:ext cx="4284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七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TextBox 18"/>
            <p:cNvSpPr/>
            <p:nvPr/>
          </p:nvSpPr>
          <p:spPr>
            <a:xfrm>
              <a:off x="5500800" y="4782960"/>
              <a:ext cx="4284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八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TextBox 19"/>
            <p:cNvSpPr/>
            <p:nvPr/>
          </p:nvSpPr>
          <p:spPr>
            <a:xfrm>
              <a:off x="6060960" y="4782960"/>
              <a:ext cx="4284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九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TextBox 20"/>
            <p:cNvSpPr/>
            <p:nvPr/>
          </p:nvSpPr>
          <p:spPr>
            <a:xfrm>
              <a:off x="6598800" y="4782960"/>
              <a:ext cx="4284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十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TextBox 21"/>
            <p:cNvSpPr/>
            <p:nvPr/>
          </p:nvSpPr>
          <p:spPr>
            <a:xfrm>
              <a:off x="7380720" y="4782960"/>
              <a:ext cx="4284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十一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Box 22"/>
            <p:cNvSpPr/>
            <p:nvPr/>
          </p:nvSpPr>
          <p:spPr>
            <a:xfrm>
              <a:off x="8144280" y="4782960"/>
              <a:ext cx="4284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十二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2" name="TextBox 27"/>
          <p:cNvSpPr/>
          <p:nvPr/>
        </p:nvSpPr>
        <p:spPr>
          <a:xfrm>
            <a:off x="371520" y="5927760"/>
            <a:ext cx="914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把上面的数据在下面用条形图表示出来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24" name="圆角矩形 5" descr=""/>
            <p:cNvPicPr/>
            <p:nvPr/>
          </p:nvPicPr>
          <p:blipFill>
            <a:blip r:embed="rId3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5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26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7" name="椭圆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8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9" name="椭圆 30" descr=""/>
              <p:cNvPicPr/>
              <p:nvPr/>
            </p:nvPicPr>
            <p:blipFill>
              <a:blip r:embed="rId5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0" name="圆角矩形 3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1" name="圆角矩形 32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2" name="圆角矩形 33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3" name="圆角矩形 34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34" name="Rectangle 64"/>
          <p:cNvSpPr/>
          <p:nvPr/>
        </p:nvSpPr>
        <p:spPr>
          <a:xfrm>
            <a:off x="488880" y="203040"/>
            <a:ext cx="2389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5" name=""/>
          <p:cNvGraphicFramePr/>
          <p:nvPr/>
        </p:nvGraphicFramePr>
        <p:xfrm>
          <a:off x="866880" y="1082520"/>
          <a:ext cx="6642000" cy="3681360"/>
        </p:xfrm>
        <a:graphic>
          <a:graphicData uri="http://schemas.openxmlformats.org/drawingml/2006/table">
            <a:tbl>
              <a:tblPr/>
              <a:tblGrid>
                <a:gridCol w="266760"/>
                <a:gridCol w="264960"/>
                <a:gridCol w="265320"/>
                <a:gridCol w="266760"/>
                <a:gridCol w="264960"/>
                <a:gridCol w="264960"/>
                <a:gridCol w="265320"/>
                <a:gridCol w="266760"/>
                <a:gridCol w="264960"/>
                <a:gridCol w="264960"/>
                <a:gridCol w="266760"/>
                <a:gridCol w="265320"/>
                <a:gridCol w="264960"/>
                <a:gridCol w="266760"/>
                <a:gridCol w="228600"/>
                <a:gridCol w="303120"/>
                <a:gridCol w="265320"/>
                <a:gridCol w="264960"/>
                <a:gridCol w="265320"/>
                <a:gridCol w="266400"/>
                <a:gridCol w="265320"/>
                <a:gridCol w="266760"/>
                <a:gridCol w="264960"/>
                <a:gridCol w="264960"/>
                <a:gridCol w="266760"/>
              </a:tblGrid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6" name="TextBox 11"/>
          <p:cNvSpPr/>
          <p:nvPr/>
        </p:nvSpPr>
        <p:spPr>
          <a:xfrm>
            <a:off x="882720" y="623880"/>
            <a:ext cx="914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人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7" name="组合 29"/>
          <p:cNvGrpSpPr/>
          <p:nvPr/>
        </p:nvGrpSpPr>
        <p:grpSpPr>
          <a:xfrm>
            <a:off x="371520" y="495360"/>
            <a:ext cx="8115120" cy="5016600"/>
            <a:chOff x="371520" y="495360"/>
            <a:chExt cx="8115120" cy="5016600"/>
          </a:xfrm>
        </p:grpSpPr>
        <p:grpSp>
          <p:nvGrpSpPr>
            <p:cNvPr id="1138" name=""/>
            <p:cNvGrpSpPr/>
            <p:nvPr/>
          </p:nvGrpSpPr>
          <p:grpSpPr>
            <a:xfrm>
              <a:off x="6734160" y="4760280"/>
              <a:ext cx="928440" cy="360"/>
              <a:chOff x="6734160" y="4760280"/>
              <a:chExt cx="928440" cy="360"/>
            </a:xfrm>
          </p:grpSpPr>
          <p:sp>
            <p:nvSpPr>
              <p:cNvPr id="1139" name="直接连接符 6"/>
              <p:cNvSpPr/>
              <p:nvPr/>
            </p:nvSpPr>
            <p:spPr>
              <a:xfrm>
                <a:off x="6734160" y="4760280"/>
                <a:ext cx="92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 txBox="1"/>
              <p:nvPr/>
            </p:nvSpPr>
            <p:spPr>
              <a:xfrm>
                <a:off x="6734160" y="4760280"/>
                <a:ext cx="928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"/>
            <p:cNvGrpSpPr/>
            <p:nvPr/>
          </p:nvGrpSpPr>
          <p:grpSpPr>
            <a:xfrm>
              <a:off x="875160" y="808200"/>
              <a:ext cx="1800" cy="571680"/>
              <a:chOff x="875160" y="808200"/>
              <a:chExt cx="1800" cy="571680"/>
            </a:xfrm>
          </p:grpSpPr>
          <p:cxnSp>
            <p:nvCxnSpPr>
              <p:cNvPr id="1142" name="直接箭头连接符 9"/>
              <p:cNvCxnSpPr/>
              <p:nvPr/>
            </p:nvCxnSpPr>
            <p:spPr>
              <a:xfrm flipV="1">
                <a:off x="875160" y="808200"/>
                <a:ext cx="2160" cy="572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1143" name=""/>
              <p:cNvSpPr txBox="1"/>
              <p:nvPr/>
            </p:nvSpPr>
            <p:spPr>
              <a:xfrm rot="16200000">
                <a:off x="590040" y="1092960"/>
                <a:ext cx="5713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4" name="TextBox 12"/>
            <p:cNvSpPr/>
            <p:nvPr/>
          </p:nvSpPr>
          <p:spPr>
            <a:xfrm>
              <a:off x="7572240" y="4507200"/>
              <a:ext cx="91440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月份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TextBox 14"/>
            <p:cNvSpPr/>
            <p:nvPr/>
          </p:nvSpPr>
          <p:spPr>
            <a:xfrm>
              <a:off x="371520" y="87876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TextBox 15"/>
            <p:cNvSpPr/>
            <p:nvPr/>
          </p:nvSpPr>
          <p:spPr>
            <a:xfrm>
              <a:off x="1000080" y="4726080"/>
              <a:ext cx="55692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一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TextBox 16"/>
            <p:cNvSpPr/>
            <p:nvPr/>
          </p:nvSpPr>
          <p:spPr>
            <a:xfrm>
              <a:off x="1500120" y="4726080"/>
              <a:ext cx="55692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二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TextBox 17"/>
            <p:cNvSpPr/>
            <p:nvPr/>
          </p:nvSpPr>
          <p:spPr>
            <a:xfrm>
              <a:off x="2022840" y="4726080"/>
              <a:ext cx="55692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三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TextBox 18"/>
            <p:cNvSpPr/>
            <p:nvPr/>
          </p:nvSpPr>
          <p:spPr>
            <a:xfrm>
              <a:off x="2511360" y="4726080"/>
              <a:ext cx="55692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四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TextBox 19"/>
            <p:cNvSpPr/>
            <p:nvPr/>
          </p:nvSpPr>
          <p:spPr>
            <a:xfrm>
              <a:off x="3034080" y="4726080"/>
              <a:ext cx="55692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五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TextBox 20"/>
            <p:cNvSpPr/>
            <p:nvPr/>
          </p:nvSpPr>
          <p:spPr>
            <a:xfrm>
              <a:off x="3525840" y="4726080"/>
              <a:ext cx="55692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六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TextBox 21"/>
            <p:cNvSpPr/>
            <p:nvPr/>
          </p:nvSpPr>
          <p:spPr>
            <a:xfrm>
              <a:off x="4025880" y="4726080"/>
              <a:ext cx="55692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七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TextBox 22"/>
            <p:cNvSpPr/>
            <p:nvPr/>
          </p:nvSpPr>
          <p:spPr>
            <a:xfrm>
              <a:off x="4572000" y="4726080"/>
              <a:ext cx="55692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八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TextBox 23"/>
            <p:cNvSpPr/>
            <p:nvPr/>
          </p:nvSpPr>
          <p:spPr>
            <a:xfrm>
              <a:off x="5086440" y="4726080"/>
              <a:ext cx="55692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九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TextBox 24"/>
            <p:cNvSpPr/>
            <p:nvPr/>
          </p:nvSpPr>
          <p:spPr>
            <a:xfrm>
              <a:off x="5601240" y="4726080"/>
              <a:ext cx="55692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十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TextBox 25"/>
            <p:cNvSpPr/>
            <p:nvPr/>
          </p:nvSpPr>
          <p:spPr>
            <a:xfrm>
              <a:off x="6112800" y="4726080"/>
              <a:ext cx="55692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十一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TextBox 26"/>
            <p:cNvSpPr/>
            <p:nvPr/>
          </p:nvSpPr>
          <p:spPr>
            <a:xfrm>
              <a:off x="6800760" y="4726080"/>
              <a:ext cx="55692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十二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TextBox 27"/>
            <p:cNvSpPr/>
            <p:nvPr/>
          </p:nvSpPr>
          <p:spPr>
            <a:xfrm>
              <a:off x="2657520" y="495360"/>
              <a:ext cx="9144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我们的出生月份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9" name="TextBox 28"/>
          <p:cNvSpPr/>
          <p:nvPr/>
        </p:nvSpPr>
        <p:spPr>
          <a:xfrm>
            <a:off x="142920" y="4929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参加统计的同学一共有（     ）人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有出生人数相同的月份吗？是哪几个月？</a:t>
            </a:r>
            <a:br>
              <a:rPr sz="2500"/>
            </a:b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（     ）月出生的人数最多，（     ）月出生的人数最少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0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61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2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63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4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5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6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7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8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9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0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71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Box 32"/>
          <p:cNvSpPr/>
          <p:nvPr/>
        </p:nvSpPr>
        <p:spPr>
          <a:xfrm>
            <a:off x="425520" y="785880"/>
            <a:ext cx="844848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可以用统计表或条形统计图表示数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在条形统计图中，可以用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格表示一个数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统计表可以详细记录各种数据，条形统计图不仅可以清楚地表示每种数据的多少，还可以表示各种数据之间的差距。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2T01:10:13Z</dcterms:created>
  <dc:creator/>
  <dc:description/>
  <dc:language>en-US</dc:language>
  <cp:lastModifiedBy>万润仪器贸易公司</cp:lastModifiedBy>
  <dcterms:modified xsi:type="dcterms:W3CDTF">2020-08-21T09:01:20Z</dcterms:modified>
  <cp:revision>23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